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298-DC85-4FE1-AF11-C692B4A0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D7A-4A42-4BE3-AAA8-D2573139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A11-D1C5-4902-84CA-5823CAE8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7F9-942D-4202-8CE6-DAEF2301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F11-81D0-4ED6-A7CE-2976A81D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848-8E0E-4F32-8631-0FF221B6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69F-39D5-4761-A169-A545B068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BDE-D7AA-422E-B5FC-606889A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C62-22F0-4520-BCD0-67834C56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FCF-95B7-4D2B-8DB0-C74494B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73F-7D13-441C-BA83-3C7CE52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563-F97F-4A90-B01C-E64A7259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621-CD0E-4DD7-A7E2-FF862F25F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9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Plan de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de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09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310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11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12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13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14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15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16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17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18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19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20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321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22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323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biliser pou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24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tretie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325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u service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326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27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328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t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329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30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331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32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onnel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33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ntrer les avantages de la nouvell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34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 mensuel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35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eur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36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37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38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39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40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41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42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43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44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former de l’av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45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Journal in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46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de la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47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e fois par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50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09Z</dcterms:modified>
  <cp:revision>100</cp:revision>
  <dc:subject/>
  <dc:title>Présentation PowerPoint</dc:title>
</cp:coreProperties>
</file>